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61035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4AF34-66A6-45C8-849A-648B892CB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8121A-380B-4FC3-A7E6-0CB8000BF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B8A17-5662-44AD-9DF0-2B5F55EB5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0BE80-AF5A-4E7A-9267-43D91C6F58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448E3-7F13-424B-BC23-159983A7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EF28D-24FB-4262-8117-D78A800B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45626-3C0F-4822-8206-4FB682B4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0A854-DBC8-4812-8828-A7B50689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A9097-1820-4899-AA16-743DC12F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82184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F34BA-EEDE-43BF-829A-8F2961D9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36A43-6B24-460A-8890-BEDD679A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B9B07-CBBD-492C-800E-2C333BCA4A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2FF51-B892-4422-ABB1-C7AB16C1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98A08-BA39-447D-8F95-15058966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53619-D774-4B06-B2EC-771F5CC9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6E66D-9261-4450-90F2-7AB02A24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A6AA3-1074-488D-839C-F5DBD396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C0D26-EC1A-4D7C-B85F-641687CB6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339B4-9D54-4EEE-9D40-638C5DA54C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D2167-054E-4B9D-8AD7-C29854098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82184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322C0-937E-4AC8-82FF-E7F60E6F0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8B57C-C915-437E-BCF0-32F619AEF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404D6-049E-4E47-97D8-04D0F5FE6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25FA3-8F73-4D60-A4B5-7F67FD83A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350E-607E-4245-B0FE-367559CF8FA2}" type="slidenum"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40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Line 41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Line 42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Line 43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4" descr=""/>
          <p:cNvPicPr/>
          <p:nvPr/>
        </p:nvPicPr>
        <p:blipFill>
          <a:blip r:embed="rId2"/>
          <a:stretch/>
        </p:blipFill>
        <p:spPr>
          <a:xfrm>
            <a:off x="1979640" y="68400"/>
            <a:ext cx="5040360" cy="1199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6A89-53E2-47C3-9C40-569B85F76A32}" type="slidenum"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220760"/>
            <a:ext cx="9144000" cy="141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1" lang="sr-CS" sz="1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ИНТЕГРИСАНЕ</a:t>
            </a:r>
            <a:r>
              <a:rPr b="1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АКАДЕМСКЕ СТУДИЈЕ ФАРМАЦИЈЕ</a:t>
            </a:r>
            <a:br>
              <a:rPr sz="2500"/>
            </a:b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Издавање лекова у пракси</a:t>
            </a:r>
            <a:br>
              <a:rPr sz="2500"/>
            </a:br>
            <a:br>
              <a:rPr sz="1500"/>
            </a:br>
            <a:r>
              <a:rPr b="1" lang="sr-CS" sz="2500" spc="-1" strike="noStrike">
                <a:solidFill>
                  <a:srgbClr val="cc0000"/>
                </a:solidFill>
                <a:latin typeface="Candara"/>
              </a:rPr>
              <a:t>Предавање 9</a:t>
            </a:r>
            <a:endParaRPr b="1" lang="en-US" sz="25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324000" y="3409920"/>
            <a:ext cx="849600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000000"/>
                </a:solidFill>
                <a:latin typeface="Candara"/>
              </a:rPr>
              <a:t>Принципи лечења бронхијалне астме</a:t>
            </a: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00"/>
                </a:solidFill>
                <a:latin typeface="Candara"/>
              </a:rPr>
              <a:t>Проф</a:t>
            </a:r>
            <a:r>
              <a:rPr b="1" lang="sr-Latn-CS" sz="2900" spc="-1" strike="noStrike">
                <a:solidFill>
                  <a:srgbClr val="cc0000"/>
                </a:solidFill>
                <a:latin typeface="Candara"/>
              </a:rPr>
              <a:t>. др Марко Фолић</a:t>
            </a: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Candara"/>
              </a:rPr>
              <a:t>Блокатори фосфодиестеразе</a:t>
            </a:r>
            <a:br>
              <a:rPr sz="2700"/>
            </a:br>
            <a:r>
              <a:rPr b="1" lang="sr-CS" sz="2700" spc="-1" strike="noStrike">
                <a:solidFill>
                  <a:srgbClr val="000000"/>
                </a:solidFill>
                <a:latin typeface="Candara"/>
              </a:rPr>
              <a:t>Ксантини</a:t>
            </a:r>
            <a:endParaRPr b="1" lang="en-US" sz="27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584000"/>
            <a:ext cx="837252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Теофилин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примењује се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и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у виду комплекса са етилендиамином који се назива аминофилин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инхибира фосфодиестеразу и тако повећава ниво cAMP-а у глатким мишићним ћелијама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, а и блокира рецепторе за аденозин, доводећи до релаксације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Наведни метилксантин смањује и замор респираторне мускулатуре, а има и антиинфламаторни ефекат.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Максимални ефекат теофилина није већи од максималног ефекта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1" lang="sr-CS" sz="2100" spc="-1" strike="noStrike" baseline="-25000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агониста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међутим,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нежељена дејства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су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израженија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Често се јављају главобоља, аритмије, хипотензија, анксиозност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, мучнина и повраћање (дејство теофилина на срце и ЦНС)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Опрез: пацијенти са срчаном инсуфицијенцијом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Препорука: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Аминофилин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треба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применити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виду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споре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интравенске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ињекције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(&gt;20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минута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)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како би се избегла нежељена дејства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Блокатори мускаринских рецептора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53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Ипратропијум-бромид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блокатор мускаринских рецептора         који се може употребити за лечење напада астме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 (у виду инхалације) услед смањења дејства парасимпатичких влакана на бронхијално стабло и смањења секреције мукуса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М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ање ефикасан од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1" lang="sr-CS" sz="2300" spc="-1" strike="noStrike" baseline="-25000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агониста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Његово право место је у лечењу хроничног бронхитиса праћен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ог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 бронхоспазмом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Тиотропи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j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ум бромид дуже остаје везан за мускаринске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                   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М</a:t>
            </a:r>
            <a:r>
              <a:rPr b="0" lang="sr-CS" sz="2300" spc="-1" strike="noStrike" baseline="-25000">
                <a:solidFill>
                  <a:srgbClr val="000000"/>
                </a:solidFill>
                <a:latin typeface="Candara"/>
              </a:rPr>
              <a:t>3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рецепторе (примена 1 дневно)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Тиотропи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j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ум бромид се користи за првенцију егзацербације хроничног опструктивног синдрома плућа.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Нежељена дејства: сува уста, главобоља, мучнина, кашаљ.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Блокатори рецептора за леукотриене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353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Монтелукаст блокира рецепторе за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цистеинил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леукотриене, супстанце које ослобађају мастоцити и за које се сматра да доприносе инфламацији и бронхоконстрикцији у астми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ористи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се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превенцији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астме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код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болесника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који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слабо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реагују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на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уоби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ајене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препарате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Узима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се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орално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једној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ве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ерњој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дози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Увек се употребљава са најмање једним леком из других група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зазива главобољу и бол у трбуху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Монтелукаст и зафирлукаст су индиковани код астм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 изазван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 физичким напором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Могућа појава Чург-Штраусововог синдрома (астма, ринитис, синузитис, еозинофилија и васкулитис)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Зилеутон инхибира прелазак арахидонске киселине у леукотриене; повећава концентрацију теофилина (инхибира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његов метаболизам) → </a:t>
            </a:r>
            <a:r>
              <a:rPr b="1" lang="sr-CS" sz="2100" spc="-1" strike="noStrike">
                <a:solidFill>
                  <a:srgbClr val="000000"/>
                </a:solidFill>
                <a:latin typeface="Candara"/>
              </a:rPr>
              <a:t>не користи се са теофилином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Кромолин и недокромил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пречава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ју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ослобађање инфламаторних медијатора из мастоцита, леукоцита и других ћелија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Користе се з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лечење хиперреактивности дисајних цеви у фази без астматичних напада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односно код астме “на напор”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римењуј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у с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виду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инхалације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ежељена дејства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-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ретка и блага: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ув кашаљ,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мучнина, благ бол у желуцу, слаби болови у зглобовим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Candara"/>
              </a:rPr>
              <a:t>Кортикостероиди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мањују инфламацију дисајних путева и тако отклањају симптоме астме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Користе се и за прекид и за превенцију напада бронхијалне астме у комбинацији са лековима из других група.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За превенцију напада индиковани су у виду инхалације (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беклометазон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, флутиказон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а за прекид напада у виду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интравенске ињекције (метилпреднизолон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, преднизолон)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4920" y="4608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900" spc="-1" strike="noStrike">
                <a:solidFill>
                  <a:srgbClr val="000000"/>
                </a:solidFill>
                <a:latin typeface="Candara"/>
              </a:rPr>
              <a:t>Нежељена дејства к</a:t>
            </a:r>
            <a:r>
              <a:rPr b="1" lang="sr-Latn-CS" sz="2900" spc="-1" strike="noStrike">
                <a:solidFill>
                  <a:srgbClr val="000000"/>
                </a:solidFill>
                <a:latin typeface="Candara"/>
              </a:rPr>
              <a:t>ортикостероид</a:t>
            </a:r>
            <a:r>
              <a:rPr b="1" lang="sr-CS" sz="2900" spc="-1" strike="noStrike">
                <a:solidFill>
                  <a:srgbClr val="000000"/>
                </a:solidFill>
                <a:latin typeface="Candara"/>
              </a:rPr>
              <a:t>а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ко се примењују системски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у дужем временском периоду (неколико месеци)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ради превенције напада астме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-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нежељена дејства: успор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ен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раст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код деце,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а код одраслих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могу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изазвати остеопорозу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пептички улкус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на оку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- појав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катаракт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е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Ду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жа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примен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кортикостероида треба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бити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путем инхалација, јер су тада н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љена дејства р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ђ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а и мање озбиљн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кандидијаз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усне дупље и промуклост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497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ndara"/>
              </a:rPr>
              <a:t>Агонисти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Candar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ndara"/>
              </a:rPr>
              <a:t>рецептора са продуженим деловањем</a:t>
            </a:r>
            <a:endParaRPr b="1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73988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У случају да се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стматич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ни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напади не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могу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превенирати хрони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ном употребом инхал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ационих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кортикостерои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да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→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побољ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ање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се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пости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е истовременом применом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агониста са проду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еним дејством (салметерол, форм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о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терол)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римењују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се 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два пута дневно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у виду инхалације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6080"/>
            <a:ext cx="8748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ndara"/>
              </a:rPr>
              <a:t>Агонисти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1" lang="sr-CS" sz="2800" spc="-1" strike="noStrike" baseline="-25000">
                <a:solidFill>
                  <a:srgbClr val="000000"/>
                </a:solidFill>
                <a:latin typeface="Candar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ndara"/>
              </a:rPr>
              <a:t>рецептора са продуженим деловањем</a:t>
            </a:r>
            <a:endParaRPr b="1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668600"/>
            <a:ext cx="82296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Користе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се у превенцији напада астме комбиновани са кортикостероидима, а самостална примена је повезана са погоршањем основне болести.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Њихова примена је 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Candara"/>
              </a:rPr>
              <a:t>контраиндикована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у самом нападу астме, јер им дејство почиње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тек 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после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                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1 сата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, а 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могу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и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провоцирати парадоксалну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бронхоконстрикцију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608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Савет 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0640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2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У </a:t>
            </a:r>
            <a:r>
              <a:rPr b="0" lang="en-US" sz="2900" spc="-1" strike="noStrike">
                <a:solidFill>
                  <a:srgbClr val="000000"/>
                </a:solidFill>
                <a:latin typeface="Candara"/>
              </a:rPr>
              <a:t>ле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900" spc="-1" strike="noStrike">
                <a:solidFill>
                  <a:srgbClr val="000000"/>
                </a:solidFill>
                <a:latin typeface="Candara"/>
              </a:rPr>
              <a:t>ењу астме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en-US" sz="2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саветовати пацијента да </a:t>
            </a:r>
            <a:r>
              <a:rPr b="0" lang="en-US" sz="2900" spc="-1" strike="noStrike">
                <a:solidFill>
                  <a:srgbClr val="000000"/>
                </a:solidFill>
                <a:latin typeface="Candara"/>
              </a:rPr>
              <a:t>треба да узима довољно те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900" spc="-1" strike="noStrike">
                <a:solidFill>
                  <a:srgbClr val="000000"/>
                </a:solidFill>
                <a:latin typeface="Candara"/>
              </a:rPr>
              <a:t>ности</a:t>
            </a: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 (</a:t>
            </a:r>
            <a:r>
              <a:rPr b="0" lang="en-US" sz="2900" spc="-1" strike="noStrike">
                <a:solidFill>
                  <a:srgbClr val="000000"/>
                </a:solidFill>
                <a:latin typeface="Candara"/>
              </a:rPr>
              <a:t>да буде добро хидриран</a:t>
            </a: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en-US" sz="2900" spc="-1" strike="noStrike">
                <a:solidFill>
                  <a:srgbClr val="000000"/>
                </a:solidFill>
                <a:latin typeface="Candara"/>
              </a:rPr>
              <a:t> како би се смањила вискозност бронхијалног секрета и олак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900" spc="-1" strike="noStrike">
                <a:solidFill>
                  <a:srgbClr val="000000"/>
                </a:solidFill>
                <a:latin typeface="Candara"/>
              </a:rPr>
              <a:t>ало његово иска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900" spc="-1" strike="noStrike">
                <a:solidFill>
                  <a:srgbClr val="000000"/>
                </a:solidFill>
                <a:latin typeface="Candara"/>
              </a:rPr>
              <a:t>љавање</a:t>
            </a: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4608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Инхалациони </a:t>
            </a:r>
            <a:r>
              <a:rPr b="1" lang="sr-Latn-CS" sz="30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ут </a:t>
            </a:r>
            <a:r>
              <a:rPr b="1" lang="sr-Latn-CS" sz="30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римене</a:t>
            </a:r>
            <a:r>
              <a:rPr b="1" lang="sr-Latn-CS" sz="3000" spc="-1" strike="noStrike">
                <a:solidFill>
                  <a:srgbClr val="000000"/>
                </a:solidFill>
                <a:latin typeface="Candara"/>
              </a:rPr>
              <a:t> медикамената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Инхалациони пут примене лекова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→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боље деловањ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лека уколико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он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ступа у непосредан контакт с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великом површином трахеобронхијалног стабла и алвеола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Предности овог начина примене лекова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оришћењ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ниских доза кој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доспева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ју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непосредно 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до “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target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”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ткив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Лек б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рзо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почиње да делује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етк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системске појаве и нежељена дејства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(з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бог ниске концентрације лека у плазми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Инхалационим путем најчешће се примењују бронходилататори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односно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кортикостероиди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556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Бронхијална астм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Хронично упално о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бољење доњих дисајних путева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проузокован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имунолошком реакцијом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уз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 ослобађање великог броја биолошки активних супстанци из нервних влакана, мастоцита, леукоцита и других ћелија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 који доводе до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отока слуз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нице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 и спазма бронхијалне мускулатуре.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39480" indent="-33948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Могући покретачи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lvl="1" marL="685080" indent="-34416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лергијск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 реакциј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е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lvl="1" marL="685080" indent="-34416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нфекцијa дисајних путева 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lvl="1" marL="685080" indent="-34416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Физички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напор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lvl="1" marL="685080" indent="-34416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Л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екови (нпр. аспирин, бета-блокатори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 нестероидни антиинфламаторни лекови)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lvl="1" marL="685080" indent="-34416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трес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lvl="1" marL="685080" indent="-34416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Хладан ваздух...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нхалацион</a:t>
            </a:r>
            <a:r>
              <a:rPr b="1" lang="sr-Latn-CS" sz="30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 терапиј</a:t>
            </a:r>
            <a:r>
              <a:rPr b="1" lang="sr-Latn-CS" sz="3000" spc="-1" strike="noStrike">
                <a:solidFill>
                  <a:srgbClr val="000000"/>
                </a:solidFill>
                <a:latin typeface="Candara"/>
              </a:rPr>
              <a:t>а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711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27000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За ефикасну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примену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инхалацион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терапиј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неопходно је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задовољење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неколико услова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3538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27000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Мале честице лека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3538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27000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Пролазни дисајни путеви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3538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27000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Правилна техника инхалациј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е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27000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3300"/>
                </a:solidFill>
                <a:latin typeface="Candara"/>
              </a:rPr>
              <a:t>Правилна техника примене дозираног аеросола значајан је предуслов ефикасне </a:t>
            </a:r>
            <a:r>
              <a:rPr b="0" i="1" lang="sr-CS" sz="2600" spc="-1" strike="noStrike">
                <a:solidFill>
                  <a:srgbClr val="ff3300"/>
                </a:solidFill>
                <a:latin typeface="Candara"/>
              </a:rPr>
              <a:t>примене </a:t>
            </a:r>
            <a:r>
              <a:rPr b="0" i="1" lang="en-US" sz="2600" spc="-1" strike="noStrike">
                <a:solidFill>
                  <a:srgbClr val="ff3300"/>
                </a:solidFill>
                <a:latin typeface="Candara"/>
              </a:rPr>
              <a:t>инхалационе терапије.</a:t>
            </a:r>
            <a:r>
              <a:rPr b="0" i="1" lang="en-US" sz="26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4608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900" spc="-1" strike="noStrike">
                <a:solidFill>
                  <a:srgbClr val="000000"/>
                </a:solidFill>
                <a:latin typeface="Candara"/>
              </a:rPr>
              <a:t>Правилна употреба аеросола (спреја) као инхалаторног облика лека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Ставити спреј изнад језика и дубоко у уста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Склопити усне око наставк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Истовремено притиснути спреј и дубоко и јако удахнути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ваздух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Удах мора бити довољно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дуг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како би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честице лека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доспеле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што дубље у плућ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Задржати дах што дуже (5-10 секунди)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Извадити спреј и лагано издахнути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Candara"/>
              </a:rPr>
              <a:t>Астматични напад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630440"/>
            <a:ext cx="8280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Б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ронхоопструкција се клинички манифестује понављаним епизодама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“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звиждања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”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, гушењ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, теско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бом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у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грудима и кашљ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ем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нарочито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ноћу и/или рано ујутро.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Candara"/>
              </a:rPr>
              <a:t>Знаци и симптоми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астматичног напада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тешко дисање и борба за ваздух, заузимање седеће позиције уз употребу помоћне дисајне мускулатуре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(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подупирa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ње рукама)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, тахипнеја, тахикардија.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                        Уколико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се напад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декватно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не прекине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развија се цијаноза и немогућност говора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уз тенденцију даљег погоршања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остојећег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стања.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Манифестације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627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Клиничка слика бронхијалне астме је веома разнолика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;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креће се од благих облика обољења са нападима гушења кратког трајања па до најтежих, који се карактеришу сталним гушењем и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“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свирањем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”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у грудима са кратким периодима</a:t>
            </a:r>
            <a:r>
              <a:rPr b="1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ублажених симптома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Candara"/>
              </a:rPr>
              <a:t>Status asthmaticus</a:t>
            </a: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 -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учестали</a:t>
            </a: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напади са кратким размацима између њих или астматични напад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који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дуже траје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без могућности његовог прекида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Л</a:t>
            </a: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ечење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Циљ л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ечењa болесника са бронхијалном астмом подразумева: </a:t>
            </a: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2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ревенциј</a:t>
            </a: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појаве </a:t>
            </a:r>
            <a:r>
              <a:rPr b="0" lang="sr-Latn-CS" sz="2900" spc="-1" strike="noStrike">
                <a:solidFill>
                  <a:srgbClr val="000000"/>
                </a:solidFill>
                <a:latin typeface="Candara"/>
              </a:rPr>
              <a:t>астматичног напада</a:t>
            </a:r>
            <a:r>
              <a:rPr b="0" lang="en-US" sz="29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2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Прекид већ насталих напада</a:t>
            </a: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9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1" lang="sr-Latn-CS" sz="2900" spc="-1" strike="noStrike">
                <a:solidFill>
                  <a:srgbClr val="000000"/>
                </a:solidFill>
                <a:latin typeface="Candara"/>
              </a:rPr>
              <a:t>ревенциј</a:t>
            </a:r>
            <a:r>
              <a:rPr b="1" lang="sr-CS" sz="29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1" lang="sr-Latn-CS" sz="2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sr-CS" sz="2900" spc="-1" strike="noStrike">
                <a:solidFill>
                  <a:srgbClr val="000000"/>
                </a:solidFill>
                <a:latin typeface="Candara"/>
              </a:rPr>
              <a:t>појаве </a:t>
            </a:r>
            <a:r>
              <a:rPr b="1" lang="sr-Latn-CS" sz="2900" spc="-1" strike="noStrike">
                <a:solidFill>
                  <a:srgbClr val="000000"/>
                </a:solidFill>
                <a:latin typeface="Candara"/>
              </a:rPr>
              <a:t>астматичног напада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39880"/>
            <a:ext cx="829152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Агонисти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1" lang="sr-CS" sz="2600" spc="-1" strike="noStrike" baseline="-25000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рецептора са продуженим деловањем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Блокатори фосфодиестеразе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Блокатори мускаринских рецептор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Блокатори рецептора за леукотриене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Стабилизатори мастоцита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Антиинфламаторни лекови - инхалациони кортикостероиди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900" spc="-1" strike="noStrike">
                <a:solidFill>
                  <a:srgbClr val="000000"/>
                </a:solidFill>
                <a:latin typeface="Candara"/>
              </a:rPr>
              <a:t>Прекид а</a:t>
            </a:r>
            <a:r>
              <a:rPr b="1" lang="sr-Latn-CS" sz="2900" spc="-1" strike="noStrike">
                <a:solidFill>
                  <a:srgbClr val="000000"/>
                </a:solidFill>
                <a:latin typeface="Candara"/>
              </a:rPr>
              <a:t>стматичн</a:t>
            </a:r>
            <a:r>
              <a:rPr b="1" lang="sr-CS" sz="2900" spc="-1" strike="noStrike">
                <a:solidFill>
                  <a:srgbClr val="000000"/>
                </a:solidFill>
                <a:latin typeface="Candara"/>
              </a:rPr>
              <a:t>ог напада</a:t>
            </a: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706400"/>
            <a:ext cx="822960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Агонисти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0" lang="sr-CS" sz="2600" spc="-1" strike="noStrike" baseline="-25000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рецептора са краткотрајним деловањем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Блокатори фосфодиестеразе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Блокатори мускаринских рецептор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Системски примењени кортикостериди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46080"/>
            <a:ext cx="8353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Candara"/>
              </a:rPr>
              <a:t>Агонисти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0" lang="sr-CS" sz="2700" spc="-1" strike="noStrike" baseline="-25000">
                <a:solidFill>
                  <a:srgbClr val="000000"/>
                </a:solidFill>
                <a:latin typeface="Candara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Candara"/>
              </a:rPr>
              <a:t>рецептора са краткотрајним деловањем</a:t>
            </a:r>
            <a:endParaRPr b="1" lang="en-US" sz="27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1628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Салбутамол, фенотерол, тербуталин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, битолтерол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као представници селективних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Candara"/>
              </a:rPr>
              <a:t>агониста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0" lang="sr-CS" sz="2300" spc="-1" strike="noStrike" baseline="-25000">
                <a:solidFill>
                  <a:srgbClr val="000000"/>
                </a:solidFill>
                <a:latin typeface="Candara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Candara"/>
              </a:rPr>
              <a:t>рецептора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активирају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значајно више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0" lang="sr-CS" sz="2300" spc="-1" strike="noStrike" baseline="-25000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рецепторa и изазивају релаксацију бронхијалне мускулатуре, а тиме и бронходилатацију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Неселективни представници (изопреналин, орципреналин, адреналин) активирају и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sr-CS" sz="2300" spc="-1" strike="noStrike" baseline="-25000">
                <a:solidFill>
                  <a:srgbClr val="000000"/>
                </a:solidFill>
                <a:latin typeface="Candara"/>
              </a:rPr>
              <a:t>1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 рецепторе (адреналин и </a:t>
            </a:r>
            <a:r>
              <a:rPr b="0" lang="el-GR" sz="2300" spc="-1" strike="noStrike">
                <a:solidFill>
                  <a:srgbClr val="000000"/>
                </a:solidFill>
                <a:latin typeface="Candara"/>
              </a:rPr>
              <a:t>α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Нежељена дејства: стимулација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sr-CS" sz="2300" spc="-1" strike="noStrike" baseline="-25000">
                <a:solidFill>
                  <a:srgbClr val="000000"/>
                </a:solidFill>
                <a:latin typeface="Candara"/>
              </a:rPr>
              <a:t>1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 и </a:t>
            </a:r>
            <a:r>
              <a:rPr b="0" lang="sr-CS" sz="23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0" lang="sr-CS" sz="2300" spc="-1" strike="noStrike" baseline="-25000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рецептор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доводи до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тахикардиј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е,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аритмије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, хипертензије, лупања срца, тремора шака. 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25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(ОПРЕЗ: Код болесника са коронарном болешћу →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изразита тахикардија и повећање потрошње О</a:t>
            </a:r>
            <a:r>
              <a:rPr b="0" lang="sr-Latn-CS" sz="23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 у срцу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→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могућ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ангинозни напад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и инфаркт миокарда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 код особа са атеросклерозом коронарних артерија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).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719360"/>
            <a:ext cx="8353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ndara"/>
              </a:rPr>
              <a:t>Агонисти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1" lang="sr-CS" sz="2600" spc="-1" strike="noStrike" baseline="-25000">
                <a:solidFill>
                  <a:srgbClr val="000000"/>
                </a:solidFill>
                <a:latin typeface="Candar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Candara"/>
              </a:rPr>
              <a:t>рецептора се могу давати и орално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it-IT" sz="2600" spc="-1" strike="noStrike">
                <a:solidFill>
                  <a:srgbClr val="000000"/>
                </a:solidFill>
                <a:latin typeface="Candara"/>
              </a:rPr>
              <a:t>али тада су не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it-IT" sz="2600" spc="-1" strike="noStrike">
                <a:solidFill>
                  <a:srgbClr val="000000"/>
                </a:solidFill>
                <a:latin typeface="Candara"/>
              </a:rPr>
              <a:t>ељена дејства изра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жениј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Орални пут примене користи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ти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тамо 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где није могуће користити инхалацију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(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мал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дец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а или стари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кој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не умеју правилно да инхалирају лек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1:20:01Z</dcterms:created>
  <dc:creator>Marko</dc:creator>
  <dc:description/>
  <dc:language>en-US</dc:language>
  <cp:lastModifiedBy>Marko</cp:lastModifiedBy>
  <dcterms:modified xsi:type="dcterms:W3CDTF">2018-04-19T07:11:35Z</dcterms:modified>
  <cp:revision>163</cp:revision>
  <dc:subject>Klinicki farmakolog</dc:subject>
  <dc:title>Predavanje za sajt fakulteta</dc:title>
</cp:coreProperties>
</file>